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FD042-B214-4524-8BFF-911970FCE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7FD40-13A6-4389-93CE-5AF943B39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33718-A12E-4AF5-8C8D-8A224059F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E2A9F-C161-4830-977C-875CFD341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9D997-5690-4C7F-B7E6-52EB7EBE9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A1061-CAA2-4EC6-9366-1D0363329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3A833-0403-4C33-9E49-B0DAEDAE3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B431D-7A81-40AF-8A6E-798E9EF91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69F0E-FE88-4712-98A4-D516AFE39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7E215-916F-4E35-802E-5D58FDF2C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EEE58-0350-499E-8147-2813489B5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34E0E-3BED-4CB0-BCF2-150D8BFC9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21699-2268-4A2A-8505-786C2FEA0C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Arial"/>
              </a:rPr>
              <a:t>REMOTE ASSE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FILETYPE: PP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05T19:33:39Z</dcterms:created>
  <dc:creator>Josh Lenius</dc:creator>
  <dc:description/>
  <dc:language>en-US</dc:language>
  <cp:lastModifiedBy>Josh Lenius</cp:lastModifiedBy>
  <dcterms:modified xsi:type="dcterms:W3CDTF">2018-03-05T19:34:59Z</dcterms:modified>
  <cp:revision>3</cp:revision>
  <dc:subject/>
  <dc:title>REMOTE ASSET</dc:title>
</cp:coreProperties>
</file>